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686-5887-4AE2-B590-76C97E3B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D7B-151F-404E-94A1-238C27E9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867-B6D2-41C0-AA32-D0085F89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218-4848-449E-8A93-B1C93EC8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CDB-67EC-4263-903A-F3FF106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29B-D7FE-4A67-8562-2D641A0A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269-B364-4961-BF0D-CD40E4AB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99A-09E5-44EE-A8BE-DE47CF2E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A9E-CD41-48E0-8E80-1C79101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279-8A14-4774-BD44-766A24FE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C21-BDF0-424C-946E-740B585C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5F5-CADC-4078-97A0-2B123C5D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FEE-3D9B-4EDF-9780-F29DD0497B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rale Capítulo 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-¿Cuántos parientes tienes?  ¿Cómo se llaman tus _______________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- ¿Cuántos hermanos tienes? ¿Cómo son ello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- ¿Adónde vas despues de la escuela?  ¿Con quié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- ¿Cómo se llaman tus abuelos? Descríbel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- ¿Quién es tu _____________ favorito? ¿Por qué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6- En tu familia, ¿quién es ______ ? (3x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- ¿Te gusta ir a la playa o la piscina? ¿dónd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8- ¿Qué día fue ay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Qué día fue anteay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Qué día es pasado mañan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9- Describe ________________  (3 adj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- Digame los 12 meses del añ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1-¿Cuándo es tu cumpleaño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2- ¿Tienes que hacer despues de escuel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3-¿Cómo escuchas la música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4-Cuenta por 100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7:48:01Z</dcterms:created>
  <dc:creator>Maple Lake</dc:creator>
  <dc:description/>
  <dc:language>en-US</dc:language>
  <cp:lastModifiedBy> </cp:lastModifiedBy>
  <dcterms:modified xsi:type="dcterms:W3CDTF">2012-12-28T18:25:54Z</dcterms:modified>
  <cp:revision>6</cp:revision>
  <dc:subject/>
  <dc:title>Orale Capítulo 5</dc:title>
</cp:coreProperties>
</file>